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7.jpeg" ContentType="image/jpeg"/>
  <Override PartName="/ppt/media/image6.wmf" ContentType="image/x-wmf"/>
  <Override PartName="/ppt/media/image11.wmf" ContentType="image/x-wmf"/>
  <Override PartName="/ppt/media/image8.wmf" ContentType="image/x-wmf"/>
  <Override PartName="/ppt/media/image9.png" ContentType="image/png"/>
  <Override PartName="/ppt/media/image10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FBC38-97D8-4805-89E6-4BD80AD55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E8903-B133-4C76-A90B-6D47D5120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6C753-8BFC-4136-B7F8-66DF5543F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6DAFF-BACE-4D60-9FD3-604492243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38B46-5744-4E18-A4A0-D1B5A9C81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DD839-DE7B-4630-954D-FF1412AED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2BAA6-F8AD-4499-8DA9-7885066CB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799F7-CD0F-4147-9CDD-B13F4BEEB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49C79-3C5B-4BAC-B875-215FD75BD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00350-31F6-4E02-AF84-174641A39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3EAEB-391D-48A1-A4A6-C1B2B7CF5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C5564-E01B-44AE-B0A5-10A5B5C5A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2296B-F62A-4757-B3E1-00733317C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D913F-DE84-46CD-8BF0-ECD3E83A0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BCB36-D647-42AE-97C2-28890727A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CB5B9-CF12-4245-8212-B2CDC6295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A8FE3-36F1-4703-A689-EE258C6B5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1EF0AA-6264-4D79-9195-2F399364D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CBB29C-E45B-4041-9B85-E334B317A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09F076F-49E0-47B7-B924-36D981A89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BE28873-A2A2-4AE0-8403-97D8431D9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D8AC1AD-0DBE-4294-B312-1A1656C04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E6D03-FD7A-4444-BFF7-C1ABA8355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E7F0C56-98EF-4D4F-9D10-853678415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F29D86E-F5B6-4FA3-9BCB-DD849F808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1CB18E-5087-49D6-BFFF-A09FE6A3D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DB9E3B-EAEB-4424-B3A0-95E035847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EFE056A-2591-4926-BF18-DB7F52B50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FD903BF-A344-490A-96F0-D240F6FF8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2972D1E-1E62-4F4F-873D-E47156348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DAD890-D78B-4E99-BCF5-1FA124828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1BEEB2-D71C-4A08-9424-BA941F064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ACBE79-0196-44A7-AAA3-77A1B3C7C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6ED6C-48E0-4025-9102-0179D0AD1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926464-0DC4-46D1-9BBB-1A2260A28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DD76F0-A80B-4119-A6BE-2E2086C1B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D34380-8EAC-41DA-BFC3-0AB92BC47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259663-96E4-4E07-825D-3B78370E1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682D5E-C72C-4AA7-A216-8ABA874D9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E44F99-833F-4053-AA96-500B31FE4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9F8B2F-97C0-4092-97DE-FE5679964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9ED46D-428D-4481-A210-1FB7F58A7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04287B-9501-4055-BDA9-0FA1AFC96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82702-7585-4BA0-8F94-02F6FF545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10D1A-2141-4D82-9A5B-6DEC27820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20369-12E7-4147-94A6-5D99C339A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5B2EA-C188-45A2-88B1-ED4D2A761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14EF9-06E8-4833-9F20-9D40234EA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b8c7e"/>
            </a:gs>
            <a:gs pos="100000">
              <a:srgbClr val="f5f7d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b0ccb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676a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b0cc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b0cc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b0ccb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76a55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b0ccb0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D2F66-5E60-4D29-8ECB-AACC7388FF8A}" type="datetime">
              <a:rPr b="0" lang="en-US" sz="800" spc="-1" strike="noStrike">
                <a:solidFill>
                  <a:srgbClr val="b0ccb0"/>
                </a:solidFill>
                <a:latin typeface="Georgia"/>
              </a:rPr>
              <a:t>07/29/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9EED7-5B1C-4FF8-8C72-5437485CC31F}" type="slidenum">
              <a:rPr b="0" lang="en-US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b8c7e"/>
            </a:gs>
            <a:gs pos="100000">
              <a:srgbClr val="f5f7d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b0cc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b0ccb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b0ccb0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b0ccb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b0ccb0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ounded Rectangle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ounded Rectangle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b0ccb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b0cc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b0cc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676a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76a55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b0ccb0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3BE0E-54EC-47AA-A903-219CEBADE68A}" type="datetime">
              <a:rPr b="0" lang="en-US" sz="800" spc="-1" strike="noStrike">
                <a:solidFill>
                  <a:srgbClr val="b0ccb0"/>
                </a:solidFill>
                <a:latin typeface="Georgia"/>
              </a:rPr>
              <a:t>07/29/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00034-F924-4D09-BB61-0EF402E6107C}" type="slidenum">
              <a:rPr b="0" lang="en-US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b8c7e"/>
            </a:gs>
            <a:gs pos="100000">
              <a:srgbClr val="f5f7d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b0ccb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676a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b0cc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b0cc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b0ccb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76a55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b0ccb0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759B4-F2F5-41C0-B9D0-8A413D9E2376}" type="datetime">
              <a:rPr b="0" lang="en-US" sz="800" spc="-1" strike="noStrike">
                <a:solidFill>
                  <a:srgbClr val="b0ccb0"/>
                </a:solidFill>
                <a:latin typeface="Georgia"/>
              </a:rPr>
              <a:t>07/29/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24F68-8A8F-4A38-A807-93BA55C6A359}" type="slidenum">
              <a:rPr b="0" lang="en-US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b8c7e"/>
            </a:gs>
            <a:gs pos="100000">
              <a:srgbClr val="f5f7d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b0ccb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676a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b0cc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b0cc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b0ccb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76a55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b0ccb0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03CEE-A9D2-4672-9E20-03889C9D6101}" type="datetime">
              <a:rPr b="0" lang="en-US" sz="800" spc="-1" strike="noStrike">
                <a:solidFill>
                  <a:srgbClr val="b0ccb0"/>
                </a:solidFill>
                <a:latin typeface="Georgia"/>
              </a:rPr>
              <a:t>07/29/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F5B99-44BC-4E6C-AFC6-5B9F850C6D2F}" type="slidenum">
              <a:rPr b="0" lang="en-US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b8c7e"/>
            </a:gs>
            <a:gs pos="100000">
              <a:srgbClr val="f5f7d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80520" y="23619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The Makeup of Soil</a:t>
            </a:r>
            <a:br>
              <a:rPr sz="4000"/>
            </a:b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</p:spTree>
  </p:cSld>
  <p:transition>
    <p:wheel spokes="2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b8c7e"/>
            </a:gs>
            <a:gs pos="100000">
              <a:srgbClr val="8a8e5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6a55"/>
                </a:solidFill>
                <a:latin typeface="Trebuchet MS"/>
              </a:rPr>
              <a:t>Animals and Insects</a:t>
            </a:r>
            <a:br>
              <a:rPr sz="3600"/>
            </a:br>
            <a:endParaRPr b="0" lang="en-US" sz="36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904760"/>
            <a:ext cx="8229600" cy="46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Earthworms, ants, crawfish, moles, and other organisms improve the soil </a:t>
            </a:r>
            <a:r>
              <a:rPr b="1" i="1" lang="en-US" sz="2800" spc="-1" strike="noStrike">
                <a:solidFill>
                  <a:srgbClr val="000000"/>
                </a:solidFill>
                <a:latin typeface="Georgia"/>
              </a:rPr>
              <a:t>tilth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(the ease with which soil can be worked)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create openings in the soil as they tunnel 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enhances drainage and improves air exchange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43" name="Picture 2" descr="C:\Documents and Settings\kmyers.HS-LAPTOP\Local Settings\Temporary Internet Files\Content.IE5\2F8WAHKY\MCBD07377_0000[1].wmf"/>
          <p:cNvPicPr/>
          <p:nvPr/>
        </p:nvPicPr>
        <p:blipFill>
          <a:blip r:embed="rId1"/>
          <a:stretch/>
        </p:blipFill>
        <p:spPr>
          <a:xfrm>
            <a:off x="3048120" y="4164120"/>
            <a:ext cx="2685960" cy="221760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5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" dur="500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4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4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50" dur="2000" fill="hold"/>
                                        <p:tgtEl>
                                          <p:spTgt spid="24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b8c7e"/>
            </a:gs>
            <a:gs pos="100000">
              <a:srgbClr val="bdc09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6a55"/>
                </a:solidFill>
                <a:latin typeface="Trebuchet MS"/>
              </a:rPr>
              <a:t>What is soil?</a:t>
            </a:r>
            <a:br>
              <a:rPr sz="3600"/>
            </a:br>
            <a:endParaRPr b="0" lang="en-US" sz="36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1808280"/>
            <a:ext cx="8229600" cy="48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Layer on the earth’s crust that provides a combination of resources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17" name="Picture 2" descr="C:\Documents and Settings\kmyers.HS-LAPTOP\Local Settings\Temporary Internet Files\Content.IE5\8XL8TNL2\MPj04331680000[1].jpg"/>
          <p:cNvPicPr/>
          <p:nvPr/>
        </p:nvPicPr>
        <p:blipFill>
          <a:blip r:embed="rId1"/>
          <a:stretch/>
        </p:blipFill>
        <p:spPr>
          <a:xfrm>
            <a:off x="2666880" y="2971800"/>
            <a:ext cx="4267440" cy="319392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b8c7e"/>
            </a:gs>
            <a:gs pos="100000">
              <a:srgbClr val="bdc09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6a55"/>
                </a:solidFill>
                <a:latin typeface="Trebuchet MS"/>
              </a:rPr>
              <a:t>How does soil help support life?</a:t>
            </a:r>
            <a:br>
              <a:rPr sz="3600"/>
            </a:br>
            <a:endParaRPr b="0" lang="en-US" sz="36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752120"/>
            <a:ext cx="6400800" cy="48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Oxygen—needed for adequate root growth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emperature—determined by the amount of heat the soil absorbs from the sun and the amount it loses to the atmosphere. Temperatures within a particular range are needed for plant growth and seed germination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20" name="Picture 3" descr="C:\Documents and Settings\kmyers.HS-LAPTOP\Local Settings\Temporary Internet Files\Content.IE5\1360HSEE\MCj02265420000[1].wmf"/>
          <p:cNvPicPr/>
          <p:nvPr/>
        </p:nvPicPr>
        <p:blipFill>
          <a:blip r:embed="rId1"/>
          <a:stretch/>
        </p:blipFill>
        <p:spPr>
          <a:xfrm>
            <a:off x="6934320" y="2035080"/>
            <a:ext cx="1828800" cy="131292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4" descr="C:\Documents and Settings\kmyers.HS-LAPTOP\Local Settings\Temporary Internet Files\Content.IE5\TLGKW6I8\MCj04136240000[1].wmf"/>
          <p:cNvPicPr/>
          <p:nvPr/>
        </p:nvPicPr>
        <p:blipFill>
          <a:blip r:embed="rId2"/>
          <a:stretch/>
        </p:blipFill>
        <p:spPr>
          <a:xfrm>
            <a:off x="6934320" y="3809880"/>
            <a:ext cx="1450800" cy="218124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4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4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5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b8c7e"/>
            </a:gs>
            <a:gs pos="100000">
              <a:srgbClr val="bdc09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6a55"/>
                </a:solidFill>
                <a:latin typeface="Trebuchet MS"/>
              </a:rPr>
              <a:t>How does soil help support life?</a:t>
            </a:r>
            <a:br>
              <a:rPr sz="3600"/>
            </a:br>
            <a:endParaRPr b="0" lang="en-US" sz="36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1752120"/>
            <a:ext cx="6781680" cy="48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Water—utilized for growth of plants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arbon—utilized in the form of organic matter in the soil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Nutrients—provided as minerals. Nitrogen is one mineral made available and recycled through decaying material in the soil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24" name="Picture 3" descr="C:\Documents and Settings\kmyers.HS-LAPTOP\Local Settings\Temporary Internet Files\Content.IE5\1GYL4YA0\MCj03405200000[1].wmf"/>
          <p:cNvPicPr/>
          <p:nvPr/>
        </p:nvPicPr>
        <p:blipFill>
          <a:blip r:embed="rId1"/>
          <a:stretch/>
        </p:blipFill>
        <p:spPr>
          <a:xfrm>
            <a:off x="7086600" y="1066680"/>
            <a:ext cx="1752480" cy="142092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4" descr="C:\Documents and Settings\kmyers.HS-LAPTOP\Local Settings\Temporary Internet Files\Content.IE5\8XL8TNL2\MCj02265120000[1].wmf"/>
          <p:cNvPicPr/>
          <p:nvPr/>
        </p:nvPicPr>
        <p:blipFill>
          <a:blip r:embed="rId2"/>
          <a:stretch/>
        </p:blipFill>
        <p:spPr>
          <a:xfrm>
            <a:off x="7132680" y="2666880"/>
            <a:ext cx="1706400" cy="121932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5" descr="C:\Documents and Settings\kmyers.HS-LAPTOP\Local Settings\Temporary Internet Files\Content.IE5\1GYL4YA0\MCj02265360000[1].wmf"/>
          <p:cNvPicPr/>
          <p:nvPr/>
        </p:nvPicPr>
        <p:blipFill>
          <a:blip r:embed="rId3"/>
          <a:stretch/>
        </p:blipFill>
        <p:spPr>
          <a:xfrm>
            <a:off x="7201080" y="4191120"/>
            <a:ext cx="1719000" cy="121896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6a55"/>
                </a:solidFill>
                <a:latin typeface="Trebuchet MS"/>
              </a:rPr>
              <a:t>Soil Components </a:t>
            </a:r>
            <a:br>
              <a:rPr sz="3600"/>
            </a:br>
            <a:endParaRPr b="0" lang="en-US" sz="36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828440"/>
            <a:ext cx="8229600" cy="474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47680">
              <a:lnSpc>
                <a:spcPct val="90000"/>
              </a:lnSpc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olid portions (50 percent of soil volume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37560" indent="-2386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Georgia"/>
              </a:rPr>
              <a:t>Mineral matter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2" marL="894600" indent="-2120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45 percent of the soil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2" marL="894600" indent="-2120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Inorganic material originating from rock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2" marL="894600" indent="-2120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Determine the soil’s ability to hold water and provide nutrient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2" marL="894600" indent="-2120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Sand, silt, and clay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637560" indent="-2386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Georgia"/>
              </a:rPr>
              <a:t>Organic matter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2" marL="894600" indent="-2120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5 percent of the soil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2" marL="894600" indent="-2120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Partially decomposed plant and animal matter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2" marL="894600" indent="-2120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Contributes to the soil’s fertility as well as improved aeration and water-holding capacity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2" marL="894600" indent="-2120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Gives soil its dark color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lnSpc>
                <a:spcPct val="90000"/>
              </a:lnSpc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29" name="Picture 4" descr="C:\Documents and Settings\kmyers.HS-LAPTOP\Local Settings\Temporary Internet Files\Content.IE5\1GYL4YA0\MCj03892860000[1].wmf"/>
          <p:cNvPicPr/>
          <p:nvPr/>
        </p:nvPicPr>
        <p:blipFill>
          <a:blip r:embed="rId2"/>
          <a:stretch/>
        </p:blipFill>
        <p:spPr>
          <a:xfrm>
            <a:off x="7620120" y="219240"/>
            <a:ext cx="1295280" cy="147780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2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2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2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2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543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6a55"/>
                </a:solidFill>
                <a:latin typeface="Trebuchet MS"/>
              </a:rPr>
              <a:t>Soil Components</a:t>
            </a:r>
            <a:br>
              <a:rPr sz="3600"/>
            </a:br>
            <a:endParaRPr b="0" lang="en-US" sz="36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7200" y="1828440"/>
            <a:ext cx="8229600" cy="474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Georgia"/>
              </a:rPr>
              <a:t>Pore space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(50 percent of soil volume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Air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25 percent of the soil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Water 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25 percent of the soil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When it rains, water will enter the soil or flow off the soil’s surface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ere is a constant fluctuation in the amount of air and water found in the soil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32" name="Picture 4" descr="C:\Documents and Settings\kmyers.HS-LAPTOP\Local Settings\Temporary Internet Files\Content.IE5\1GYL4YA0\MCj03892860000[1].wmf"/>
          <p:cNvPicPr/>
          <p:nvPr/>
        </p:nvPicPr>
        <p:blipFill>
          <a:blip r:embed="rId2"/>
          <a:stretch/>
        </p:blipFill>
        <p:spPr>
          <a:xfrm>
            <a:off x="7620120" y="219240"/>
            <a:ext cx="1295280" cy="147780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2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676a55"/>
              </a:solidFill>
              <a:latin typeface="Trebuchet MS"/>
            </a:endParaRPr>
          </a:p>
        </p:txBody>
      </p:sp>
      <p:pic>
        <p:nvPicPr>
          <p:cNvPr id="234" name="Picture 2" descr=""/>
          <p:cNvPicPr/>
          <p:nvPr/>
        </p:nvPicPr>
        <p:blipFill>
          <a:blip r:embed="rId2"/>
          <a:stretch/>
        </p:blipFill>
        <p:spPr>
          <a:xfrm>
            <a:off x="1295280" y="490680"/>
            <a:ext cx="6477120" cy="622908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b8c7e"/>
            </a:gs>
            <a:gs pos="100000">
              <a:srgbClr val="8a8e5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6a55"/>
                </a:solidFill>
                <a:latin typeface="Trebuchet MS"/>
              </a:rPr>
              <a:t>Living Organisms Found in Soil</a:t>
            </a:r>
            <a:br>
              <a:rPr sz="3600"/>
            </a:br>
            <a:endParaRPr b="0" lang="en-US" sz="36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904760"/>
            <a:ext cx="8229600" cy="46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rms of life in soil include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Earthworm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Insect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Bacteria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ungi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Other organism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37" name="Picture 2" descr="C:\Documents and Settings\kmyers.HS-LAPTOP\Local Settings\Temporary Internet Files\Content.IE5\2F8WAHKY\MPj04385240000[1].jpg"/>
          <p:cNvPicPr/>
          <p:nvPr/>
        </p:nvPicPr>
        <p:blipFill>
          <a:blip r:embed="rId1"/>
          <a:stretch/>
        </p:blipFill>
        <p:spPr>
          <a:xfrm>
            <a:off x="4572000" y="3886200"/>
            <a:ext cx="3048120" cy="201456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2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b8c7e"/>
            </a:gs>
            <a:gs pos="100000">
              <a:srgbClr val="8a8e5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6a55"/>
                </a:solidFill>
                <a:latin typeface="Trebuchet MS"/>
              </a:rPr>
              <a:t>Bacteria and Fungi</a:t>
            </a:r>
            <a:br>
              <a:rPr sz="3600"/>
            </a:br>
            <a:endParaRPr b="0" lang="en-US" sz="36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1218960" y="1904760"/>
            <a:ext cx="7467480" cy="46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Break down organic matter and release nutrients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Have symbiotic relationships with plants. 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Symbiosis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is the living together of unlike organisms where both organisms benefit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fungi get glucose and sucrose from plant roots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plants are assisted in the absorption of water and minerals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40" name="Picture 2" descr="C:\Documents and Settings\kmyers.HS-LAPTOP\Local Settings\Temporary Internet Files\Content.IE5\1360HSEE\MCj04324230000[1].wmf"/>
          <p:cNvPicPr/>
          <p:nvPr/>
        </p:nvPicPr>
        <p:blipFill>
          <a:blip r:embed="rId1"/>
          <a:stretch/>
        </p:blipFill>
        <p:spPr>
          <a:xfrm>
            <a:off x="304920" y="2209680"/>
            <a:ext cx="1130040" cy="104148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500"/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5T01:23:41Z</dcterms:created>
  <dc:creator>kmyers</dc:creator>
  <dc:description/>
  <dc:language>en-US</dc:language>
  <cp:lastModifiedBy>Alicia Burge</cp:lastModifiedBy>
  <dcterms:modified xsi:type="dcterms:W3CDTF">2010-10-05T02:16:18Z</dcterms:modified>
  <cp:revision>19</cp:revision>
  <dc:subject/>
  <dc:title>Slide 1</dc:title>
</cp:coreProperties>
</file>